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079-9681-4D52-87BC-29C25E20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00D-94DB-4AF9-AEE1-91233D1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C75-A3A5-4815-AA8C-0AD83E32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719-1003-401A-8941-76B5F4A6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9A6-8A36-4ACF-A31A-05768A91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DC2-2378-40F8-B50D-43C43B8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E00-AD1E-4B2D-97D7-FB773C2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612-5EAF-4EC3-BC79-5B838D7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2C9-31B2-4576-99BB-E3683FA2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ADA-CACD-4DD4-8661-0B0FCC7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F36-BCB0-48CF-9EA8-42674BB6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F67-1914-4A5D-A12F-B46525B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6E0-6A23-47E4-B3BF-769A17C00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organ Per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457200" y="1828800"/>
            <a:ext cx="6934320" cy="469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t3.gstatic.com/images?q=tbn:ANd9GcQwZfOhOxbBsoeWD25ADd1dCITZ7zzrNYMEngPrrKBu_w_ICkSz"/>
          <p:cNvPicPr/>
          <p:nvPr/>
        </p:nvPicPr>
        <p:blipFill>
          <a:blip r:embed="rId1"/>
          <a:stretch/>
        </p:blipFill>
        <p:spPr>
          <a:xfrm>
            <a:off x="685800" y="1752480"/>
            <a:ext cx="7315200" cy="464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www.crystalinks.com/greekcities.jpg"/>
          <p:cNvPicPr/>
          <p:nvPr/>
        </p:nvPicPr>
        <p:blipFill>
          <a:blip r:embed="rId1"/>
          <a:srcRect l="19999" t="13463" r="18919" b="21155"/>
          <a:stretch/>
        </p:blipFill>
        <p:spPr>
          <a:xfrm>
            <a:off x="0" y="1492200"/>
            <a:ext cx="8915400" cy="5365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t0.gstatic.com/images?q=tbn:ANd9GcRV4nDpNmDv3NwfXq0vnqiDSyyS6onsNAERbEuhGiw4ISpZut-Bkw"/>
          <p:cNvPicPr/>
          <p:nvPr/>
        </p:nvPicPr>
        <p:blipFill>
          <a:blip r:embed="rId1"/>
          <a:stretch/>
        </p:blipFill>
        <p:spPr>
          <a:xfrm>
            <a:off x="457200" y="1600200"/>
            <a:ext cx="7162920" cy="4871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t0.gstatic.com/images?q=tbn:ANd9GcR3fTo6cG9nRK1hBQm6lyBsGV07gcTI6LY2djstUbYJ-xIcJir3"/>
          <p:cNvPicPr/>
          <p:nvPr/>
        </p:nvPicPr>
        <p:blipFill>
          <a:blip r:embed="rId1"/>
          <a:stretch/>
        </p:blipFill>
        <p:spPr>
          <a:xfrm>
            <a:off x="380880" y="190512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0" y="1905120"/>
            <a:ext cx="8153280" cy="453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0.gstatic.com/images?q=tbn:ANd9GcT-D1LrfBds6j19alVDEJnk0375TcwV1u0-EwDgzDBTm4KodBy-xg"/>
          <p:cNvPicPr/>
          <p:nvPr/>
        </p:nvPicPr>
        <p:blipFill>
          <a:blip r:embed="rId1"/>
          <a:stretch/>
        </p:blipFill>
        <p:spPr>
          <a:xfrm>
            <a:off x="533520" y="2209680"/>
            <a:ext cx="7086600" cy="355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RTAB9bofA4KGPTL8drs1uVh57mBgWVzs25XxLgm7himqTfxyHm"/>
          <p:cNvPicPr/>
          <p:nvPr/>
        </p:nvPicPr>
        <p:blipFill>
          <a:blip r:embed="rId1"/>
          <a:stretch/>
        </p:blipFill>
        <p:spPr>
          <a:xfrm>
            <a:off x="380880" y="2133720"/>
            <a:ext cx="7391520" cy="445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1.gstatic.com/images?q=tbn:ANd9GcSuqqmYIcTKKWZva4IKjpX6ZAODyb5PcP32UyW33BbwT2sM3Nhw"/>
          <p:cNvPicPr/>
          <p:nvPr/>
        </p:nvPicPr>
        <p:blipFill>
          <a:blip r:embed="rId1"/>
          <a:stretch/>
        </p:blipFill>
        <p:spPr>
          <a:xfrm>
            <a:off x="380880" y="1981080"/>
            <a:ext cx="6858000" cy="455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RoEkHc929r3Tg0zvdLcsKLh1ODyFddpqBkPsg3zcHAWLYm67lb"/>
          <p:cNvPicPr/>
          <p:nvPr/>
        </p:nvPicPr>
        <p:blipFill>
          <a:blip r:embed="rId1"/>
          <a:stretch/>
        </p:blipFill>
        <p:spPr>
          <a:xfrm>
            <a:off x="0" y="22096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0" y="2057400"/>
            <a:ext cx="7924680" cy="42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www.xtimeline.com/__UserPic_Large/105028/evt110401205600048.gif"/>
          <p:cNvPicPr/>
          <p:nvPr/>
        </p:nvPicPr>
        <p:blipFill>
          <a:blip r:embed="rId1"/>
          <a:stretch/>
        </p:blipFill>
        <p:spPr>
          <a:xfrm>
            <a:off x="990720" y="1981080"/>
            <a:ext cx="6630840" cy="350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court of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t0.gstatic.com/images?q=tbn:ANd9GcQP84QRG_xe_32jz_JMn0x9SobINq3WII9D5ZMkBnz1dkOeg6ax"/>
          <p:cNvPicPr/>
          <p:nvPr/>
        </p:nvPicPr>
        <p:blipFill>
          <a:blip r:embed="rId1"/>
          <a:stretch/>
        </p:blipFill>
        <p:spPr>
          <a:xfrm>
            <a:off x="609480" y="175248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63360" y="-776160"/>
            <a:ext cx="28101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63360" y="-776160"/>
            <a:ext cx="28101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3360" y="-99072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http://www.dkimages.com/discover/previews/741/115902.JPG"/>
          <p:cNvPicPr/>
          <p:nvPr/>
        </p:nvPicPr>
        <p:blipFill>
          <a:blip r:embed="rId1"/>
          <a:stretch/>
        </p:blipFill>
        <p:spPr>
          <a:xfrm>
            <a:off x="1828800" y="1533600"/>
            <a:ext cx="5638680" cy="532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00:24:28Z</dcterms:modified>
  <cp:revision>91</cp:revision>
  <dc:subject/>
  <dc:title>Ancient Greece</dc:title>
</cp:coreProperties>
</file>